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DBDA-C9C1-463F-B2B9-3F06748A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C061-E3DF-44C3-86CD-7D334406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982-7143-472E-BF3B-74875868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7BB8-89EF-442C-8377-7FB8CB34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8DC6-5F22-4C8F-9FF0-F55E11C4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9544-63FF-41DE-BDCE-8DD0974C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829F-2B05-4541-BD46-2E1B34E6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23DB-A9A3-424D-96CA-2AEF2B8E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C140-AA11-4F0C-BEA2-B1C69BDD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E6A6-154C-43CA-9FBC-3DF87DE0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86EF-8554-483C-BC7E-10558985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5A3-E22C-4CC7-996C-AC9B16C6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0478-B333-40BC-BB8A-73E415A8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50F1-8F74-42AF-8578-5D29FDCB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BABD-2E5A-4769-84C9-B5ED16AC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86BD-BED2-4B85-9F76-246D675C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43B6-DA9F-4E22-A6BC-E62BBA97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598C0-B5E5-4EF6-8162-64FAEB2B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20D53-217F-44AF-9985-69478F0D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CB896-9D53-49FB-9FBD-86CC61DC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866C8-E627-4439-A114-7A7D040E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7213D-C72F-4173-B007-092E944B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4A02-37E5-4CDD-8A9C-12957EB5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EE1DE-E2FC-4CE8-8844-3F916615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11AC1-81A2-4D0F-9A1B-D4750CB5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34AC3-D746-432B-ABE5-09C72F5F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6EB88-2D0B-44F0-BFA8-78B395B2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7F810-342A-48F0-ABE0-C3F19743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75226-CA70-4A67-AC8A-5244C0FB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B3C13-8EFF-4CE7-BD73-6AEFBBA1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517F30-8A48-4979-9A76-68FC6898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EA0C63-1007-4893-AB53-C2FFF3A8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056C77-D6D3-4342-90CE-7C8F73D7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31DB-DB4E-40A1-852C-AE26ED7A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40B551-845D-4925-B6CE-1BAC3331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DBAFF3-4F90-4393-AEEB-E689B54A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9AF19B-1898-4DA0-BB0E-B562DA6E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C3A4B3-54AE-4A6F-B2D7-B8E3A63F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91BA14-8DCB-42B8-829C-70F0FC8A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B38067-8A8D-47A4-A89E-6508BB35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86537E-C486-4BCF-9B55-9240A273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8361B0-87EF-4F79-AE76-D3B5884D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1073B5-0930-4AB7-BBDF-587EF75E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6F8AE-F3D6-4BE7-83B3-6DF74577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AE75-871A-48BA-9B50-E56E6F0F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BBF94-6068-44E5-BDE8-9DEDB11A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471AA-CC41-4185-A37A-CFE8D20E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5BCF0-E5D4-4BEB-91EF-ECC83C6D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8C733-4328-4D4A-9A69-C2DA4CB8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ACF36-206C-4DC1-90A0-94B07E69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A080C-C0BC-46C0-BC22-00D2D206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97736-82E8-4565-ACDD-F3E56150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96B89-5B05-42F6-9D63-A5465D7A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583C6-9105-467B-A1AB-4F6AAE85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E1B3B-CA96-4C5B-9C4C-E65D1A7B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486C-0927-427A-95BF-DE9DFD91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13001-51A8-4ECC-BA4D-C3C7C90F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C8452-F24D-445E-B718-D5FDF98E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E49EE-B375-44B9-B26B-F7EE2CEF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F9581-7D68-4B3A-8AED-9E438A72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5B903-F9FC-4D0F-8089-73160297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A7559-2E26-4CE4-B551-02A0B07F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C83F4-CE10-4C84-AC0E-C7A95CFE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CF7DD-9665-43AC-976A-3BBEE711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0C1B0-9302-4380-9267-BCCCBD73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82F7A-91C9-461A-AB0B-6A878A0E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5E68-D79E-4521-AEDA-D6D0F29D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C058A-5E27-4E30-9A73-76BF752E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D36BC-5AC1-4834-8898-4C2C8D9E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0D7B9-57B3-47D3-9E50-8FDB0F61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55A5-3AD5-49CA-B0D1-46B52B79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80D1-FA88-4175-9957-0320A08A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2BC0-FEAC-499A-BF95-5CC81F7CC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CF4C-F57E-4240-B3B1-77691F674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1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1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1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2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6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27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0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3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6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9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42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45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48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51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54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57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60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63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66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69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72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75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78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81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84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87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1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92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95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98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01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04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07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10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13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16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19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22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4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3A32-0FDD-4B25-851E-9F74F0F765FB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88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0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92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3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94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9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9CC5-6784-46EA-AB8D-118515EDB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4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24F0-3745-49E9-8C43-3121398E8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39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9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40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0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0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0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0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1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1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1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1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2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2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2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3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3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3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4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4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4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4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5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5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5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6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6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6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7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7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7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8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8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8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9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9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9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9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0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0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50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50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51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44E0-571D-4505-BC02-0DE8BEBB356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Climate Chang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571" name="Picture 7" descr="hsc4432l"/>
          <p:cNvPicPr/>
          <p:nvPr/>
        </p:nvPicPr>
        <p:blipFill>
          <a:blip r:embed="rId1"/>
          <a:stretch/>
        </p:blipFill>
        <p:spPr>
          <a:xfrm>
            <a:off x="1143000" y="1371600"/>
            <a:ext cx="7162920" cy="441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are able to live on Earth because of a similar effect to the Greenhouse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clouds, water vapour and gases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eenhouse Gase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idn’t absorb and hold the sun’s heat, Earth would be too hot during the day and very cold at n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all these gases building up are trapping too much heat close to Earth resulting in Global climate chan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ing energy and developing alternative energy sources would hel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ven if we take aggressive action now, we can’t completely prevent climate change because once carbon dioxide is in the atmosphere, it remains there for about 120 yea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e need to think of our future generations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5" descr="energy-savingtips"/>
          <p:cNvPicPr/>
          <p:nvPr/>
        </p:nvPicPr>
        <p:blipFill>
          <a:blip r:embed="rId1"/>
          <a:stretch/>
        </p:blipFill>
        <p:spPr>
          <a:xfrm>
            <a:off x="380880" y="171360"/>
            <a:ext cx="8534520" cy="641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5" descr="energy-saving-cartoon"/>
          <p:cNvPicPr/>
          <p:nvPr/>
        </p:nvPicPr>
        <p:blipFill>
          <a:blip r:embed="rId1"/>
          <a:stretch/>
        </p:blipFill>
        <p:spPr>
          <a:xfrm>
            <a:off x="1828800" y="533520"/>
            <a:ext cx="556272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Global Warming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arming trend caused by unnatural changes in the atmosphe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ther extremes: heat waves, hurricanes, droughts, flo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ning fossil fuels is a major cause of global warm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is scientific consensus that global warming is real, is caused by human activities, and presents serious challeng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bal warming is caused by the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eenhouse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ing up and trapping heat in the Earth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mosphere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bo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oxi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m burning coal, oil and gas in power plants, cars, factories, et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than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eased from rice paddies, both ends of cows, rotting garbage in landfills, mining operations, and gas pipel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hlorofluorocarb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FC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lso causing ozone depletion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itrous oxi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m fertilizers and chemical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's average temperature has risen ab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degree F in the past 100 years and will rise another 3 to 10 degrees F in the next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. Summer heat waves in the Great Lakes region have already had pollution episodes and increased health risks (breathing problem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ons near the Arctic Oce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udson Bay are expect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much warmer wint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glaciers melting) but the Atlan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ons will change very litt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Picture 7" descr="ANd9GcQae3oLKTnKqSj50q7rVeoO2VOnhjd7ox7uNnnKtScAWIfeSyt_thnZWVlrAw"/>
          <p:cNvPicPr/>
          <p:nvPr/>
        </p:nvPicPr>
        <p:blipFill>
          <a:blip r:embed="rId1"/>
          <a:stretch/>
        </p:blipFill>
        <p:spPr>
          <a:xfrm>
            <a:off x="5943600" y="3809880"/>
            <a:ext cx="2743200" cy="2697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bal warming will have significant impacts on people and nat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emperatures continue to rise, precipitation will become more frequent in heavy downpou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n expect extreme wet and dry conditi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8" name="Picture 5" descr="ANd9GcR-UTtXAN4PH7VOdb43lDCxqODWu4XmxPkoTerDOKwlZnb2ow9Vvw"/>
          <p:cNvPicPr/>
          <p:nvPr/>
        </p:nvPicPr>
        <p:blipFill>
          <a:blip r:embed="rId1"/>
          <a:stretch/>
        </p:blipFill>
        <p:spPr>
          <a:xfrm>
            <a:off x="1600200" y="2881440"/>
            <a:ext cx="5791320" cy="397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lant and animal species will migrate or disappear in response to changes in climate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580" name="Picture 5" descr="hsc4603l"/>
          <p:cNvPicPr/>
          <p:nvPr/>
        </p:nvPicPr>
        <p:blipFill>
          <a:blip r:embed="rId1"/>
          <a:stretch/>
        </p:blipFill>
        <p:spPr>
          <a:xfrm>
            <a:off x="1523880" y="1957320"/>
            <a:ext cx="5639040" cy="435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 level has already risen due to warming and is projected to rise much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people are under the mistaken impression that only if the polar ice caps melt will sea level ri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lting ice caps is one reason but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 reas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becau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ater expa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 it wa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Picture 19" descr="cartoon_global_warm"/>
          <p:cNvPicPr/>
          <p:nvPr/>
        </p:nvPicPr>
        <p:blipFill>
          <a:blip r:embed="rId1"/>
          <a:stretch/>
        </p:blipFill>
        <p:spPr>
          <a:xfrm>
            <a:off x="3505320" y="304812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e0dc"/>
                </a:solidFill>
                <a:latin typeface="Arial"/>
              </a:rPr>
              <a:t>Greenhouse Effec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dde0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twave sunlight enters the atmosp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dde0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is absorbed by the ground and is re-radiated as heat or longwave radi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dde0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is captured by greenhouse gases and kept in the atmosphe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Picture 5" descr="greenhouseeffect2usethis"/>
          <p:cNvPicPr/>
          <p:nvPr/>
        </p:nvPicPr>
        <p:blipFill>
          <a:blip r:embed="rId1"/>
          <a:stretch/>
        </p:blipFill>
        <p:spPr>
          <a:xfrm>
            <a:off x="4800600" y="1600200"/>
            <a:ext cx="3886200" cy="31464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7" descr="greenhouse1"/>
          <p:cNvPicPr/>
          <p:nvPr/>
        </p:nvPicPr>
        <p:blipFill>
          <a:blip r:embed="rId2"/>
          <a:stretch/>
        </p:blipFill>
        <p:spPr>
          <a:xfrm>
            <a:off x="457200" y="1600200"/>
            <a:ext cx="4495680" cy="3111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ozone hole does not cause global wa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zone depletion is a different problem caused mainly by CFC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zone layer is only just beginning to recover, partly because these chemicals remain in the atmosphere for a long ti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8" name="Picture 5" descr="ANd9GcQfs2D9FGcUYzixyUYD83tR0oOpJQhNPhWPsJLSXPUvJdYGH8mO"/>
          <p:cNvPicPr/>
          <p:nvPr/>
        </p:nvPicPr>
        <p:blipFill>
          <a:blip r:embed="rId1"/>
          <a:stretch/>
        </p:blipFill>
        <p:spPr>
          <a:xfrm>
            <a:off x="1981080" y="2174760"/>
            <a:ext cx="5257800" cy="3262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2:57:25Z</dcterms:created>
  <dc:creator>Amanda</dc:creator>
  <dc:description/>
  <dc:language>en-US</dc:language>
  <cp:lastModifiedBy>Jason</cp:lastModifiedBy>
  <dcterms:modified xsi:type="dcterms:W3CDTF">2011-01-13T12:31:28Z</dcterms:modified>
  <cp:revision>25</cp:revision>
  <dc:subject/>
  <dc:title>Climate Change</dc:title>
</cp:coreProperties>
</file>